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4383-3557-4AF1-90D0-9CD2FA3D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E605-5C00-49D4-A966-FE51D25A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BCDE-D96D-45C8-96DF-A030BDD0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82827-26B6-4DCD-B157-1F81155B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15B0-16B3-4847-A8C7-F2B62E7B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A2F5-49D9-4921-B10D-CC97DDFB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85E8-52E3-416E-87BF-8157A1F8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4B83-AFAE-4674-AC85-AA4D88FB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E951-000F-478F-A4CE-56C40619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7CAC-1911-4E01-8778-34C766EB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D6D1-EDAD-44BE-B783-AF6808E6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E375-F24E-4C66-B415-22C0C821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07A8-07C4-4A79-B022-F256F46C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BC15-96A4-4C10-84B5-95498D5E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C6C8-1AF4-48B6-8220-965E2A3B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F7D7-6F61-4437-8B16-2630DF01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48CF-987E-42CF-95EE-AC777D9F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49653-7981-4033-8F13-2906F331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A7A5-C7BE-4380-9CC0-5847FA9A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2B9E-9F36-4074-9DE8-8C28C416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34BE-4AE1-4324-9324-8350DD02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D7A2-7924-4DBF-A25B-26588824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917A-8AB1-461C-8FAB-61555C05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49DD-A500-40D1-B8A0-FB994B90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E472-DF7B-4CF2-BACC-90639397CA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0F56-C4D3-43EA-B9F9-62E826BF62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Tahoma"/>
              </a:rPr>
              <a:t>What’s OPAC?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allenpaupack Area High School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nline Catalo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Non-fiction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000-2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Works/Technology/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3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ci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400-6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/Pure Science/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7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7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2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graphy (Coll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c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 + First Three Letters of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’s Last Na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ory Collection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C+ First Three Letters of author/editor/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iler/tit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Done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ow you know how to use OPAC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f you have any questions, please stop by the front desk and ask the helpful library staff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MPj03413440000[1]"/>
          <p:cNvPicPr/>
          <p:nvPr/>
        </p:nvPicPr>
        <p:blipFill>
          <a:blip r:embed="rId1"/>
          <a:stretch/>
        </p:blipFill>
        <p:spPr>
          <a:xfrm>
            <a:off x="4888080" y="1371600"/>
            <a:ext cx="3643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at is OPAC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1f39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PAC is an acronym for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l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talog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You use OPAC to locate library resour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MPj03960590000[1]"/>
          <p:cNvPicPr/>
          <p:nvPr/>
        </p:nvPicPr>
        <p:blipFill>
          <a:blip r:embed="rId1"/>
          <a:stretch/>
        </p:blipFill>
        <p:spPr>
          <a:xfrm>
            <a:off x="3535200" y="1689120"/>
            <a:ext cx="4791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ere Is OPAC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590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og-on to any high school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elect the Library Men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lick on the OPAC ic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Object 6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610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CA" sz="3800" spc="-1" strike="noStrike">
                <a:solidFill>
                  <a:srgbClr val="ffffff"/>
                </a:solidFill>
                <a:latin typeface="Tahoma"/>
              </a:rPr>
              <a:t>Once you launch OPAC, 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you will see this screen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30a0">
                <a:alpha val="50000"/>
              </a:srgbClr>
            </a:outerShdw>
          </a:effectLst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440" y="23623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02000"/>
                </a:solidFill>
                <a:latin typeface="Tahoma"/>
              </a:rPr>
              <a:t>Do you know the author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057400" y="3276720"/>
            <a:ext cx="48006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Type the last na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Click the Author ic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82880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02000"/>
                </a:solidFill>
                <a:latin typeface="Tahoma"/>
              </a:rPr>
              <a:t>Are you looking for a particular topic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1981080" y="3200400"/>
            <a:ext cx="54864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Type in the general t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Click Subject or keywo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Let’s perform an Author Search for Stephanie Mey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447920" y="1523880"/>
            <a:ext cx="5943600" cy="4457880"/>
            <a:chOff x="1447920" y="1523880"/>
            <a:chExt cx="5943600" cy="4457880"/>
          </a:xfrm>
        </p:grpSpPr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1447920" y="1523880"/>
              <a:ext cx="5943600" cy="44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6"/>
            <p:cNvSpPr/>
            <p:nvPr/>
          </p:nvSpPr>
          <p:spPr>
            <a:xfrm>
              <a:off x="4896000" y="2447640"/>
              <a:ext cx="990360" cy="59040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7"/>
            <p:cNvSpPr/>
            <p:nvPr/>
          </p:nvSpPr>
          <p:spPr>
            <a:xfrm>
              <a:off x="3400560" y="2447640"/>
              <a:ext cx="1209600" cy="59040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6124680" y="2571480"/>
              <a:ext cx="961920" cy="46656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2438280" y="1733400"/>
              <a:ext cx="799920" cy="30456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3720"/>
            <a:ext cx="6477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81f67"/>
                </a:solidFill>
                <a:latin typeface="Tahoma"/>
              </a:rPr>
              <a:t>Type Meyer; click Auth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81f67"/>
                </a:solidFill>
                <a:latin typeface="Tahoma"/>
              </a:rPr>
              <a:t>Information provided incl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Titles the library possess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Call number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Book status (Are the books In or Out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at about a Subject Search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9" name="Group 27"/>
          <p:cNvGrpSpPr/>
          <p:nvPr/>
        </p:nvGrpSpPr>
        <p:grpSpPr>
          <a:xfrm>
            <a:off x="609480" y="990720"/>
            <a:ext cx="7086600" cy="4457520"/>
            <a:chOff x="609480" y="990720"/>
            <a:chExt cx="7086600" cy="4457520"/>
          </a:xfrm>
        </p:grpSpPr>
        <p:grpSp>
          <p:nvGrpSpPr>
            <p:cNvPr id="150" name="Group 9"/>
            <p:cNvGrpSpPr/>
            <p:nvPr/>
          </p:nvGrpSpPr>
          <p:grpSpPr>
            <a:xfrm>
              <a:off x="609480" y="990720"/>
              <a:ext cx="5943600" cy="4457520"/>
              <a:chOff x="609480" y="990720"/>
              <a:chExt cx="5943600" cy="4457520"/>
            </a:xfrm>
          </p:grpSpPr>
          <p:pic>
            <p:nvPicPr>
              <p:cNvPr id="151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990720"/>
                <a:ext cx="5943600" cy="44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Oval 11"/>
              <p:cNvSpPr/>
              <p:nvPr/>
            </p:nvSpPr>
            <p:spPr>
              <a:xfrm>
                <a:off x="1533240" y="1200240"/>
                <a:ext cx="714240" cy="285840"/>
              </a:xfrm>
              <a:prstGeom prst="ellipse">
                <a:avLst/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AutoShape 12"/>
              <p:cNvSpPr/>
              <p:nvPr/>
            </p:nvSpPr>
            <p:spPr>
              <a:xfrm>
                <a:off x="2700000" y="3124080"/>
                <a:ext cx="2548080" cy="1190520"/>
              </a:xfrm>
              <a:prstGeom prst="foldedCorner">
                <a:avLst>
                  <a:gd name="adj" fmla="val 12500"/>
                </a:avLst>
              </a:prstGeom>
              <a:solidFill>
                <a:srgbClr val="cf7b79">
                  <a:alpha val="30000"/>
                </a:srgbClr>
              </a:solidFill>
              <a:ln w="6480">
                <a:solidFill>
                  <a:srgbClr val="969696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137160" tIns="9144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Cambria"/>
                  </a:rPr>
                  <a:t>Hmmm….Do I want a book about 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Dog Training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              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People who own dogs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	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Funny dog stories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4" name="AutoShape 13"/>
              <p:cNvCxnSpPr/>
              <p:nvPr/>
            </p:nvCxnSpPr>
            <p:spPr>
              <a:xfrm flipH="1">
                <a:off x="1342440" y="3666600"/>
                <a:ext cx="1467360" cy="2916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  <p:cxnSp>
            <p:nvCxnSpPr>
              <p:cNvPr id="155" name="AutoShape 14"/>
              <p:cNvCxnSpPr/>
              <p:nvPr/>
            </p:nvCxnSpPr>
            <p:spPr>
              <a:xfrm flipH="1" flipV="1">
                <a:off x="1580040" y="3542760"/>
                <a:ext cx="1695960" cy="30528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  <p:cxnSp>
            <p:nvCxnSpPr>
              <p:cNvPr id="156" name="AutoShape 15"/>
              <p:cNvCxnSpPr/>
              <p:nvPr/>
            </p:nvCxnSpPr>
            <p:spPr>
              <a:xfrm flipH="1">
                <a:off x="1342080" y="4076280"/>
                <a:ext cx="2353320" cy="43884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  <p:sp>
          <p:nvSpPr>
            <p:cNvPr id="157" name="Rectangle 26"/>
            <p:cNvSpPr/>
            <p:nvPr/>
          </p:nvSpPr>
          <p:spPr>
            <a:xfrm>
              <a:off x="609480" y="1828800"/>
              <a:ext cx="7086600" cy="1523880"/>
            </a:xfrm>
            <a:prstGeom prst="rect">
              <a:avLst/>
            </a:prstGeom>
            <a:solidFill>
              <a:srgbClr val="892e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Use a Broad term or word for a subject search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When you perform a subject search for dog, you will see this list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Next, you may need to Narrow your choice to a particular topic or resource type  (fiction, biography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But wait!</a:t>
            </a:r>
            <a:br>
              <a:rPr sz="4200"/>
            </a:b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How do I use “Call Numbers”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ll numbers are the address that tell you where the book lives in the libr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ook at the plaques’ numbers to locate the correct sh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opacpics 010"/>
          <p:cNvPicPr/>
          <p:nvPr/>
        </p:nvPicPr>
        <p:blipFill>
          <a:blip r:embed="rId1"/>
          <a:stretch/>
        </p:blipFill>
        <p:spPr>
          <a:xfrm>
            <a:off x="4967280" y="1600200"/>
            <a:ext cx="3400560" cy="453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There it i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ften, books will have the same num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o make it easier to locate a book, libraries assign a three letter code beneath the num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ll books are filed first by their number, then alphabetically by the three letter co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9" descr="opacpics 018"/>
          <p:cNvPicPr/>
          <p:nvPr/>
        </p:nvPicPr>
        <p:blipFill>
          <a:blip r:embed="rId1"/>
          <a:stretch/>
        </p:blipFill>
        <p:spPr>
          <a:xfrm>
            <a:off x="228600" y="1523880"/>
            <a:ext cx="3890880" cy="291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Reference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erence Section (R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and Specialized Encycloped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nacs, Handbooks, Manu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lases, Foreign Language Dictionaries, Biograp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Histories, Criticisms, Political Profiles, Statesman’s Year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5:09:21Z</dcterms:created>
  <dc:creator>mifriesen</dc:creator>
  <dc:description/>
  <dc:language>en-US</dc:language>
  <cp:lastModifiedBy>SAYLORRI</cp:lastModifiedBy>
  <dcterms:modified xsi:type="dcterms:W3CDTF">2008-11-12T16:45:42Z</dcterms:modified>
  <cp:revision>38</cp:revision>
  <dc:subject/>
  <dc:title>What’s OPAC?</dc:title>
</cp:coreProperties>
</file>